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5904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C9F-1C26-4042-A4E5-DDAF26FAE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5FC-FF14-4C68-8CFF-B4391E1F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0402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02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02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3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6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pSp>
        <p:nvGrpSpPr>
          <p:cNvPr id="14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5" name="Rectangle 20" hidden="1"/>
            <p:cNvSpPr/>
            <p:nvPr/>
          </p:nvSpPr>
          <p:spPr>
            <a:xfrm rot="21540000">
              <a:off x="379800" y="6096960"/>
              <a:ext cx="830556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21"/>
            <p:cNvSpPr/>
            <p:nvPr/>
          </p:nvSpPr>
          <p:spPr>
            <a:xfrm rot="21540000">
              <a:off x="379800" y="61682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2"/>
            <p:cNvSpPr/>
            <p:nvPr/>
          </p:nvSpPr>
          <p:spPr>
            <a:xfrm rot="21540000">
              <a:off x="584280" y="6163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3"/>
            <p:cNvSpPr/>
            <p:nvPr/>
          </p:nvSpPr>
          <p:spPr>
            <a:xfrm rot="21540000">
              <a:off x="790920" y="6160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4"/>
            <p:cNvSpPr/>
            <p:nvPr/>
          </p:nvSpPr>
          <p:spPr>
            <a:xfrm rot="21540000">
              <a:off x="995760" y="61570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5"/>
            <p:cNvSpPr/>
            <p:nvPr/>
          </p:nvSpPr>
          <p:spPr>
            <a:xfrm rot="21540000">
              <a:off x="1202040" y="61538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6"/>
            <p:cNvSpPr/>
            <p:nvPr/>
          </p:nvSpPr>
          <p:spPr>
            <a:xfrm rot="21540000">
              <a:off x="1406520" y="61495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7"/>
            <p:cNvSpPr/>
            <p:nvPr/>
          </p:nvSpPr>
          <p:spPr>
            <a:xfrm rot="21540000">
              <a:off x="1611360" y="61462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8"/>
            <p:cNvSpPr/>
            <p:nvPr/>
          </p:nvSpPr>
          <p:spPr>
            <a:xfrm rot="21540000">
              <a:off x="1817640" y="6143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9"/>
            <p:cNvSpPr/>
            <p:nvPr/>
          </p:nvSpPr>
          <p:spPr>
            <a:xfrm rot="21540000">
              <a:off x="2022480" y="6139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30"/>
            <p:cNvSpPr/>
            <p:nvPr/>
          </p:nvSpPr>
          <p:spPr>
            <a:xfrm rot="21540000">
              <a:off x="2229120" y="61351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31"/>
            <p:cNvSpPr/>
            <p:nvPr/>
          </p:nvSpPr>
          <p:spPr>
            <a:xfrm rot="21540000">
              <a:off x="2433600" y="6131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2"/>
            <p:cNvSpPr/>
            <p:nvPr/>
          </p:nvSpPr>
          <p:spPr>
            <a:xfrm rot="21540000">
              <a:off x="2638440" y="61286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3"/>
            <p:cNvSpPr/>
            <p:nvPr/>
          </p:nvSpPr>
          <p:spPr>
            <a:xfrm rot="21540000">
              <a:off x="2845080" y="6125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4"/>
            <p:cNvSpPr/>
            <p:nvPr/>
          </p:nvSpPr>
          <p:spPr>
            <a:xfrm rot="21540000">
              <a:off x="3049920" y="61207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5"/>
            <p:cNvSpPr/>
            <p:nvPr/>
          </p:nvSpPr>
          <p:spPr>
            <a:xfrm rot="21540000">
              <a:off x="3254760" y="61174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6"/>
            <p:cNvSpPr/>
            <p:nvPr/>
          </p:nvSpPr>
          <p:spPr>
            <a:xfrm rot="21540000">
              <a:off x="3461040" y="6114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7"/>
            <p:cNvSpPr/>
            <p:nvPr/>
          </p:nvSpPr>
          <p:spPr>
            <a:xfrm rot="21540000">
              <a:off x="3665880" y="61113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8"/>
            <p:cNvSpPr/>
            <p:nvPr/>
          </p:nvSpPr>
          <p:spPr>
            <a:xfrm rot="21540000">
              <a:off x="3871800" y="6106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9"/>
            <p:cNvSpPr/>
            <p:nvPr/>
          </p:nvSpPr>
          <p:spPr>
            <a:xfrm rot="21540000">
              <a:off x="4076640" y="6103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40"/>
            <p:cNvSpPr/>
            <p:nvPr/>
          </p:nvSpPr>
          <p:spPr>
            <a:xfrm rot="21540000">
              <a:off x="4281480" y="6100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41"/>
            <p:cNvSpPr/>
            <p:nvPr/>
          </p:nvSpPr>
          <p:spPr>
            <a:xfrm rot="21540000">
              <a:off x="4487760" y="6096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42"/>
            <p:cNvSpPr/>
            <p:nvPr/>
          </p:nvSpPr>
          <p:spPr>
            <a:xfrm rot="21540000">
              <a:off x="4691160" y="60919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3"/>
            <p:cNvSpPr/>
            <p:nvPr/>
          </p:nvSpPr>
          <p:spPr>
            <a:xfrm rot="21540000">
              <a:off x="4897440" y="6089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4"/>
            <p:cNvSpPr/>
            <p:nvPr/>
          </p:nvSpPr>
          <p:spPr>
            <a:xfrm rot="21540000">
              <a:off x="5102280" y="6085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5"/>
            <p:cNvSpPr/>
            <p:nvPr/>
          </p:nvSpPr>
          <p:spPr>
            <a:xfrm rot="21540000">
              <a:off x="5307120" y="60811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6"/>
            <p:cNvSpPr/>
            <p:nvPr/>
          </p:nvSpPr>
          <p:spPr>
            <a:xfrm rot="21540000">
              <a:off x="5513760" y="6077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7"/>
            <p:cNvSpPr/>
            <p:nvPr/>
          </p:nvSpPr>
          <p:spPr>
            <a:xfrm rot="21540000">
              <a:off x="5718240" y="60750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8"/>
            <p:cNvSpPr/>
            <p:nvPr/>
          </p:nvSpPr>
          <p:spPr>
            <a:xfrm rot="21540000">
              <a:off x="5924880" y="6071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9"/>
            <p:cNvSpPr/>
            <p:nvPr/>
          </p:nvSpPr>
          <p:spPr>
            <a:xfrm rot="21540000">
              <a:off x="6129360" y="60670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50"/>
            <p:cNvSpPr/>
            <p:nvPr/>
          </p:nvSpPr>
          <p:spPr>
            <a:xfrm rot="21540000">
              <a:off x="6334200" y="60638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51"/>
            <p:cNvSpPr/>
            <p:nvPr/>
          </p:nvSpPr>
          <p:spPr>
            <a:xfrm rot="21540000">
              <a:off x="6540480" y="6060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52"/>
            <p:cNvSpPr/>
            <p:nvPr/>
          </p:nvSpPr>
          <p:spPr>
            <a:xfrm rot="21540000">
              <a:off x="6745320" y="60573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3"/>
            <p:cNvSpPr/>
            <p:nvPr/>
          </p:nvSpPr>
          <p:spPr>
            <a:xfrm rot="21540000">
              <a:off x="6950160" y="60526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4"/>
            <p:cNvSpPr/>
            <p:nvPr/>
          </p:nvSpPr>
          <p:spPr>
            <a:xfrm rot="21540000">
              <a:off x="7156440" y="6049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5"/>
            <p:cNvSpPr/>
            <p:nvPr/>
          </p:nvSpPr>
          <p:spPr>
            <a:xfrm rot="21540000">
              <a:off x="7361280" y="6046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6"/>
            <p:cNvSpPr/>
            <p:nvPr/>
          </p:nvSpPr>
          <p:spPr>
            <a:xfrm rot="21540000">
              <a:off x="7567560" y="6042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7"/>
            <p:cNvSpPr/>
            <p:nvPr/>
          </p:nvSpPr>
          <p:spPr>
            <a:xfrm rot="21540000">
              <a:off x="7772400" y="60382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8"/>
            <p:cNvSpPr/>
            <p:nvPr/>
          </p:nvSpPr>
          <p:spPr>
            <a:xfrm rot="21540000">
              <a:off x="7977240" y="60350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9"/>
            <p:cNvSpPr/>
            <p:nvPr/>
          </p:nvSpPr>
          <p:spPr>
            <a:xfrm rot="21540000">
              <a:off x="8183880" y="6031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60"/>
            <p:cNvSpPr/>
            <p:nvPr/>
          </p:nvSpPr>
          <p:spPr>
            <a:xfrm rot="21540000">
              <a:off x="8388720" y="6028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61"/>
            <p:cNvSpPr/>
            <p:nvPr/>
          </p:nvSpPr>
          <p:spPr>
            <a:xfrm rot="21540000">
              <a:off x="8594640" y="6023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59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8"/>
          <p:cNvGrpSpPr/>
          <p:nvPr/>
        </p:nvGrpSpPr>
        <p:grpSpPr>
          <a:xfrm>
            <a:off x="50400" y="100800"/>
            <a:ext cx="8884080" cy="1753200"/>
            <a:chOff x="50400" y="100800"/>
            <a:chExt cx="8884080" cy="1753200"/>
          </a:xfrm>
        </p:grpSpPr>
        <p:sp>
          <p:nvSpPr>
            <p:cNvPr id="98" name="Rectangle 9"/>
            <p:cNvSpPr/>
            <p:nvPr/>
          </p:nvSpPr>
          <p:spPr>
            <a:xfrm rot="21432000">
              <a:off x="210600" y="429480"/>
              <a:ext cx="8704440" cy="9907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0" descr=""/>
            <p:cNvPicPr/>
            <p:nvPr/>
          </p:nvPicPr>
          <p:blipFill>
            <a:blip r:embed="rId2"/>
            <a:srcRect l="-5" t="-10091" r="28698" b="-22915"/>
            <a:stretch/>
          </p:blipFill>
          <p:spPr>
            <a:xfrm rot="21372000">
              <a:off x="382320" y="380520"/>
              <a:ext cx="8489880" cy="119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11"/>
            <p:cNvGrpSpPr/>
            <p:nvPr/>
          </p:nvGrpSpPr>
          <p:grpSpPr>
            <a:xfrm>
              <a:off x="50400" y="694800"/>
              <a:ext cx="730440" cy="1057680"/>
              <a:chOff x="50400" y="694800"/>
              <a:chExt cx="730440" cy="1057680"/>
            </a:xfrm>
          </p:grpSpPr>
          <p:sp>
            <p:nvSpPr>
              <p:cNvPr id="101" name="Rectangle 12" hidden="1"/>
              <p:cNvSpPr/>
              <p:nvPr/>
            </p:nvSpPr>
            <p:spPr>
              <a:xfrm>
                <a:off x="76320" y="694800"/>
                <a:ext cx="678960" cy="105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3"/>
              <p:cNvSpPr/>
              <p:nvPr/>
            </p:nvSpPr>
            <p:spPr>
              <a:xfrm rot="21060000">
                <a:off x="118800" y="761400"/>
                <a:ext cx="593280" cy="92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4"/>
              <p:cNvSpPr/>
              <p:nvPr/>
            </p:nvSpPr>
            <p:spPr>
              <a:xfrm>
                <a:off x="180720" y="859680"/>
                <a:ext cx="469800" cy="7290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5"/>
              <p:cNvSpPr/>
              <p:nvPr/>
            </p:nvSpPr>
            <p:spPr>
              <a:xfrm>
                <a:off x="241200" y="951840"/>
                <a:ext cx="348840" cy="543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6"/>
              <p:cNvSpPr/>
              <p:nvPr/>
            </p:nvSpPr>
            <p:spPr>
              <a:xfrm>
                <a:off x="280800" y="1015560"/>
                <a:ext cx="269640" cy="41760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7"/>
              <p:cNvSpPr/>
              <p:nvPr/>
            </p:nvSpPr>
            <p:spPr>
              <a:xfrm>
                <a:off x="334800" y="1098000"/>
                <a:ext cx="161640" cy="252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8"/>
              <p:cNvSpPr/>
              <p:nvPr/>
            </p:nvSpPr>
            <p:spPr>
              <a:xfrm>
                <a:off x="374400" y="1158480"/>
                <a:ext cx="82440" cy="129960"/>
              </a:xfrm>
              <a:prstGeom prst="ellips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19"/>
          <p:cNvGrpSpPr/>
          <p:nvPr/>
        </p:nvGrpSpPr>
        <p:grpSpPr>
          <a:xfrm>
            <a:off x="379440" y="6023520"/>
            <a:ext cx="8305920" cy="221040"/>
            <a:chOff x="379440" y="6023520"/>
            <a:chExt cx="8305920" cy="221040"/>
          </a:xfrm>
        </p:grpSpPr>
        <p:sp>
          <p:nvSpPr>
            <p:cNvPr id="109" name="Rectangle 20" hidden="1"/>
            <p:cNvSpPr/>
            <p:nvPr/>
          </p:nvSpPr>
          <p:spPr>
            <a:xfrm rot="21540000">
              <a:off x="379800" y="6096960"/>
              <a:ext cx="8305560" cy="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 rot="21540000">
              <a:off x="379800" y="61682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 rot="21540000">
              <a:off x="584280" y="6163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 rot="21540000">
              <a:off x="790920" y="6160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 rot="21540000">
              <a:off x="995760" y="61570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 rot="21540000">
              <a:off x="1202040" y="61538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 rot="21540000">
              <a:off x="1406520" y="61495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 rot="21540000">
              <a:off x="1611360" y="61462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 rot="21540000">
              <a:off x="1817640" y="6143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 rot="21540000">
              <a:off x="2022480" y="6139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 rot="21540000">
              <a:off x="2229120" y="61351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 rot="21540000">
              <a:off x="2433600" y="6131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 rot="21540000">
              <a:off x="2638440" y="61286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 rot="21540000">
              <a:off x="2845080" y="6125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 rot="21540000">
              <a:off x="3049920" y="61207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 rot="21540000">
              <a:off x="3254760" y="61174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 rot="21540000">
              <a:off x="3461040" y="6114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 rot="21540000">
              <a:off x="3665880" y="61113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 rot="21540000">
              <a:off x="3871800" y="610632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 rot="21540000">
              <a:off x="4076640" y="6103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0"/>
            <p:cNvSpPr/>
            <p:nvPr/>
          </p:nvSpPr>
          <p:spPr>
            <a:xfrm rot="21540000">
              <a:off x="4281480" y="6100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1"/>
            <p:cNvSpPr/>
            <p:nvPr/>
          </p:nvSpPr>
          <p:spPr>
            <a:xfrm rot="21540000">
              <a:off x="4487760" y="6096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2"/>
            <p:cNvSpPr/>
            <p:nvPr/>
          </p:nvSpPr>
          <p:spPr>
            <a:xfrm rot="21540000">
              <a:off x="4691160" y="60919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3"/>
            <p:cNvSpPr/>
            <p:nvPr/>
          </p:nvSpPr>
          <p:spPr>
            <a:xfrm rot="21540000">
              <a:off x="4897440" y="60890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4"/>
            <p:cNvSpPr/>
            <p:nvPr/>
          </p:nvSpPr>
          <p:spPr>
            <a:xfrm rot="21540000">
              <a:off x="5102280" y="6085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5"/>
            <p:cNvSpPr/>
            <p:nvPr/>
          </p:nvSpPr>
          <p:spPr>
            <a:xfrm rot="21540000">
              <a:off x="5307120" y="608112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6"/>
            <p:cNvSpPr/>
            <p:nvPr/>
          </p:nvSpPr>
          <p:spPr>
            <a:xfrm rot="21540000">
              <a:off x="5513760" y="6077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7"/>
            <p:cNvSpPr/>
            <p:nvPr/>
          </p:nvSpPr>
          <p:spPr>
            <a:xfrm rot="21540000">
              <a:off x="5718240" y="60750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48"/>
            <p:cNvSpPr/>
            <p:nvPr/>
          </p:nvSpPr>
          <p:spPr>
            <a:xfrm rot="21540000">
              <a:off x="5924880" y="60714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49"/>
            <p:cNvSpPr/>
            <p:nvPr/>
          </p:nvSpPr>
          <p:spPr>
            <a:xfrm rot="21540000">
              <a:off x="6129360" y="60670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0"/>
            <p:cNvSpPr/>
            <p:nvPr/>
          </p:nvSpPr>
          <p:spPr>
            <a:xfrm rot="21540000">
              <a:off x="6334200" y="60638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1"/>
            <p:cNvSpPr/>
            <p:nvPr/>
          </p:nvSpPr>
          <p:spPr>
            <a:xfrm rot="21540000">
              <a:off x="6540480" y="60606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2"/>
            <p:cNvSpPr/>
            <p:nvPr/>
          </p:nvSpPr>
          <p:spPr>
            <a:xfrm rot="21540000">
              <a:off x="6745320" y="60573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3"/>
            <p:cNvSpPr/>
            <p:nvPr/>
          </p:nvSpPr>
          <p:spPr>
            <a:xfrm rot="21540000">
              <a:off x="6950160" y="605268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4"/>
            <p:cNvSpPr/>
            <p:nvPr/>
          </p:nvSpPr>
          <p:spPr>
            <a:xfrm rot="21540000">
              <a:off x="7156440" y="604944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5"/>
            <p:cNvSpPr/>
            <p:nvPr/>
          </p:nvSpPr>
          <p:spPr>
            <a:xfrm rot="21540000">
              <a:off x="7361280" y="604620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6"/>
            <p:cNvSpPr/>
            <p:nvPr/>
          </p:nvSpPr>
          <p:spPr>
            <a:xfrm rot="21540000">
              <a:off x="7567560" y="604296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7"/>
            <p:cNvSpPr/>
            <p:nvPr/>
          </p:nvSpPr>
          <p:spPr>
            <a:xfrm rot="21540000">
              <a:off x="7772400" y="60382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58"/>
            <p:cNvSpPr/>
            <p:nvPr/>
          </p:nvSpPr>
          <p:spPr>
            <a:xfrm rot="21540000">
              <a:off x="7977240" y="603504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9"/>
            <p:cNvSpPr/>
            <p:nvPr/>
          </p:nvSpPr>
          <p:spPr>
            <a:xfrm rot="21540000">
              <a:off x="8183880" y="603180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0"/>
            <p:cNvSpPr/>
            <p:nvPr/>
          </p:nvSpPr>
          <p:spPr>
            <a:xfrm rot="21540000">
              <a:off x="8388720" y="6028560"/>
              <a:ext cx="903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1"/>
            <p:cNvSpPr/>
            <p:nvPr/>
          </p:nvSpPr>
          <p:spPr>
            <a:xfrm rot="21540000">
              <a:off x="8594640" y="6023880"/>
              <a:ext cx="88560" cy="74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62"/>
          <p:cNvSpPr/>
          <p:nvPr/>
        </p:nvSpPr>
        <p:spPr>
          <a:xfrm>
            <a:off x="8086680" y="1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1.12.2.G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457200" y="6248520"/>
            <a:ext cx="8267760" cy="191880"/>
            <a:chOff x="457200" y="6248520"/>
            <a:chExt cx="8267760" cy="191880"/>
          </a:xfrm>
        </p:grpSpPr>
        <p:pic>
          <p:nvPicPr>
            <p:cNvPr id="153" name="Picture 16" descr="UA-horiz blk"/>
            <p:cNvPicPr/>
            <p:nvPr/>
          </p:nvPicPr>
          <p:blipFill>
            <a:blip r:embed="rId3"/>
            <a:stretch/>
          </p:blipFill>
          <p:spPr>
            <a:xfrm>
              <a:off x="457200" y="6248520"/>
              <a:ext cx="81432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TCA-New-Logo-3-color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772760" y="6248520"/>
              <a:ext cx="952200" cy="18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au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aur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DFDD66A-C8A8-4B94-9913-1541AA047CE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11B2B86-FCF8-42CB-A324-DB2FA611E88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The Language of the 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Market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03" name="Picture 4" descr="BS00558_[1]"/>
          <p:cNvPicPr/>
          <p:nvPr/>
        </p:nvPicPr>
        <p:blipFill>
          <a:blip r:embed="rId1"/>
          <a:stretch/>
        </p:blipFill>
        <p:spPr>
          <a:xfrm>
            <a:off x="7491240" y="2514600"/>
            <a:ext cx="1652760" cy="1463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F295218-9B08-4058-914E-EDBB8732D92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Growth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Growth stocks are from companies who have a consistent record of relatively rapid growth and earnings in all economic condi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ew companies expanding product lin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Usually does not pay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5 or higher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Coca-Cola and Wal-Ma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D342D41-B6D2-4977-BD0C-A6AC5BFAEC7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Incom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Income stocks pay higher than average dividend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y only retains small portion of profi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ith a steady stream of income such as utility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less than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0E407C5-AC0A-4D5F-B937-5A9EE5604F7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al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alue stocks are from companies which have a low market price considering historical earning records and value of asset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iewed as investment bargain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evious examples are Time Warner and IBM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D5D8CE97-3697-41F2-99B9-BFF555A773C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yclical stocks are influenced by changes in the economic business cyc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mpanies which operate in major consumer dependent industries 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utomobiles, housing, airlin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generally 1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027AE9B-9EA8-4867-919B-A9FB0876416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untercyclical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ountercyclical stocks are companies which give consistent returns even when the economy is suffering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oducts are always in deman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ood for investors who want dividend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utility companies and grocery stor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1.0 or below, even negativ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501486C-32B8-4460-B60E-C8F5F4633FE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peculativ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peculative stocks are companies with potential for substantial earning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Very high risk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include internet and video game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ta is 2.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BC1135F-E641-4D94-BADF-FD340BD699C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lue-chip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lue-chip stocks are from nationally recognized companies with long records of profit, dividend payments, and a good reputation for management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 at a consistent rat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xamples are McDonalds, Wal-Mart and General Electric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8805D07D-EAED-4E09-8F7D-6706A232502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Researching A Stock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53" name="Picture 8" descr="j0234354"/>
          <p:cNvPicPr/>
          <p:nvPr/>
        </p:nvPicPr>
        <p:blipFill>
          <a:blip r:embed="rId1"/>
          <a:stretch/>
        </p:blipFill>
        <p:spPr>
          <a:xfrm>
            <a:off x="3352680" y="3657600"/>
            <a:ext cx="243864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651F03D-1274-4D21-A4E1-4F6286E13AB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ook Valu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Book value is the net worth of a compan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ssets-Liabilities = Book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formation can be found in the company’s annual repor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dicates what would happen if a company’s assets were sold, debts paid, and proceeds distributed to stockholder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F20316BE-EEC3-4CE8-B11F-39798F0D1BC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Earning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How much income a company has available to pay in dividends and reinvest as retained earnings on a per share basi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After tax annual earnings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= Earnings per share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aur"/>
              </a:rPr>
              <a:t>Total number of shares of common stock</a:t>
            </a:r>
            <a:endParaRPr b="1" lang="en-US" sz="21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the business section of many newspap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dicates how well a company is doing (the quality of products, customer service, and operations management)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762120" y="34290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63F4A8D-334A-4661-B296-D9348DDED99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Learn About Stock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market is the core of America’s economic system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is a share of ownership in the assets and earnings of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ond is a type of debt that a company issues to investors for a specified amount of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ock market is a general term used to describe all transactions involving the buying and selling of stocks and bonds issued by a compan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BA9EE83-942F-40C1-A470-897A86282F6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relationship between the price of one share of stock and the annual earnings of the company (P/E ratio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ice per sha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= 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Earnings per share of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in a newspaper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widely used critical measure of a stock’s pric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Represents how much an investor is willing to pay for each dollar of a company’s earning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2590920" y="35812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42F0909-7A00-4BD2-B014-8171B26939A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/E Ratio Continue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st companies have between a 5-25 P/E ratio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7-10 P/E ratios are financially successful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15-25 P/E ratios are rapidly growing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40-50 P/E ratios are speculative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ower P/E  stocks pay higher dividends and have less risk, lower prices, and slow growth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igh P/E ratios indicate the firm is expected to have a lot of growth in the futur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8028AAD-672F-4CEA-B64A-AD425C22512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eta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Beta measures a stocks volatility compared to overall changes in the stock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f a stock has a beta of +1.5 and the market went up 10%, the value of the stock is expected to rise 15%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verage beta is between +0.5 - +2.0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formation can be found by doing an internet search for “Stock ticker symbol + beta”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higher beta indicates more risk because the stock price change will be more drastic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D8E62B0-CA52-4A31-86B3-88C787E98D87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Reading Stock Quote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273" name="Picture 6" descr="j0237169"/>
          <p:cNvPicPr/>
          <p:nvPr/>
        </p:nvPicPr>
        <p:blipFill>
          <a:blip r:embed="rId1"/>
          <a:stretch/>
        </p:blipFill>
        <p:spPr>
          <a:xfrm>
            <a:off x="3048120" y="350532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D91E40D-5092-4B2E-9CCD-6CFBA0C3081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Year to Date Percen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04920" y="2192400"/>
          <a:ext cx="8534160" cy="100800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  <a:gridCol w="685800"/>
                <a:gridCol w="762120"/>
                <a:gridCol w="609480"/>
                <a:gridCol w="685800"/>
                <a:gridCol w="685800"/>
                <a:gridCol w="762120"/>
                <a:gridCol w="685800"/>
                <a:gridCol w="609480"/>
                <a:gridCol w="762120"/>
                <a:gridCol w="761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241"/>
          <p:cNvSpPr/>
          <p:nvPr/>
        </p:nvSpPr>
        <p:spPr>
          <a:xfrm>
            <a:off x="457200" y="32004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Year to date percent change is the stock price percent change from January 1</a:t>
            </a:r>
            <a:r>
              <a:rPr b="1" lang="en-US" sz="3200" spc="-1" strike="noStrike" baseline="30000">
                <a:solidFill>
                  <a:srgbClr val="009999"/>
                </a:solidFill>
                <a:latin typeface="Centaur"/>
              </a:rPr>
              <a:t>st </a:t>
            </a: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of the curren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stock was $43.00 on January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and $36.00 on July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th,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, the percentage change would be -16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A8B61E2-F845-4310-AAB1-8CAE52FFB1D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52-Week High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1874880"/>
          <a:ext cx="8534160" cy="1325520"/>
        </p:xfrm>
        <a:graphic>
          <a:graphicData uri="http://schemas.openxmlformats.org/drawingml/2006/table">
            <a:tbl>
              <a:tblPr/>
              <a:tblGrid>
                <a:gridCol w="807840"/>
                <a:gridCol w="662040"/>
                <a:gridCol w="739800"/>
                <a:gridCol w="762120"/>
                <a:gridCol w="609480"/>
                <a:gridCol w="685800"/>
                <a:gridCol w="609480"/>
                <a:gridCol w="762120"/>
                <a:gridCol w="685800"/>
                <a:gridCol w="685800"/>
                <a:gridCol w="762120"/>
                <a:gridCol w="761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66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52-Week High &amp; Low shows the highest and lowest prices the stock was sold per share during the last 5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86F2E9E-4CB5-4D7F-BC94-06475AB2099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Na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74880"/>
          <a:ext cx="8381880" cy="1249200"/>
        </p:xfrm>
        <a:graphic>
          <a:graphicData uri="http://schemas.openxmlformats.org/drawingml/2006/table">
            <a:tbl>
              <a:tblPr/>
              <a:tblGrid>
                <a:gridCol w="779400"/>
                <a:gridCol w="638280"/>
                <a:gridCol w="712800"/>
                <a:gridCol w="735120"/>
                <a:gridCol w="587160"/>
                <a:gridCol w="738360"/>
                <a:gridCol w="609480"/>
                <a:gridCol w="762120"/>
                <a:gridCol w="685800"/>
                <a:gridCol w="609480"/>
                <a:gridCol w="838080"/>
                <a:gridCol w="685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57"/>
          <p:cNvSpPr/>
          <p:nvPr/>
        </p:nvSpPr>
        <p:spPr>
          <a:xfrm>
            <a:off x="304920" y="34290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Stock – Each company’s stock is provided with an abbreviated trading symbo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944E73C0-CD82-4DB6-8186-8D300B127B8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s per shar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874880"/>
          <a:ext cx="8763120" cy="1173240"/>
        </p:xfrm>
        <a:graphic>
          <a:graphicData uri="http://schemas.openxmlformats.org/drawingml/2006/table">
            <a:tbl>
              <a:tblPr/>
              <a:tblGrid>
                <a:gridCol w="868320"/>
                <a:gridCol w="731880"/>
                <a:gridCol w="725400"/>
                <a:gridCol w="746280"/>
                <a:gridCol w="596880"/>
                <a:gridCol w="752400"/>
                <a:gridCol w="552600"/>
                <a:gridCol w="947520"/>
                <a:gridCol w="709560"/>
                <a:gridCol w="631800"/>
                <a:gridCol w="789120"/>
                <a:gridCol w="711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56"/>
          <p:cNvSpPr/>
          <p:nvPr/>
        </p:nvSpPr>
        <p:spPr>
          <a:xfrm>
            <a:off x="457200" y="327672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Dividends per share is the total cash paid to common stockholders per share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Helpful when determining the type of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f a company paid $10,000 in dividends for 30,000 shares, the dividends per share would be $0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8E8DC66-C07A-4836-8F03-C49B655C9DD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Dividend Yield Percenta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28600" y="1874880"/>
          <a:ext cx="861048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685800"/>
                <a:gridCol w="882360"/>
                <a:gridCol w="570240"/>
                <a:gridCol w="718920"/>
                <a:gridCol w="593640"/>
                <a:gridCol w="841680"/>
                <a:gridCol w="812520"/>
                <a:gridCol w="609840"/>
                <a:gridCol w="761760"/>
                <a:gridCol w="6858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59"/>
          <p:cNvSpPr/>
          <p:nvPr/>
        </p:nvSpPr>
        <p:spPr>
          <a:xfrm>
            <a:off x="457200" y="33526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ividend yield percentage is the dividend expressed as a percentage of the price of th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a company paid $1.25 in dividends for a stock with a market price of $50.00, the dividend yield percentage would be 2.5% (1.25/5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Helpful to know how much income to expect.  A company paying high dividends is not reinvesting money to g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60563B23-7965-4327-AD7D-D1234F46EBE8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ice/Earnings Ratio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752480"/>
          <a:ext cx="8839440" cy="1371600"/>
        </p:xfrm>
        <a:graphic>
          <a:graphicData uri="http://schemas.openxmlformats.org/drawingml/2006/table">
            <a:tbl>
              <a:tblPr/>
              <a:tblGrid>
                <a:gridCol w="762120"/>
                <a:gridCol w="781200"/>
                <a:gridCol w="823680"/>
                <a:gridCol w="757440"/>
                <a:gridCol w="573120"/>
                <a:gridCol w="723600"/>
                <a:gridCol w="598680"/>
                <a:gridCol w="847800"/>
                <a:gridCol w="685800"/>
                <a:gridCol w="749160"/>
                <a:gridCol w="766800"/>
                <a:gridCol w="7700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Rectangle 54"/>
          <p:cNvSpPr/>
          <p:nvPr/>
        </p:nvSpPr>
        <p:spPr>
          <a:xfrm>
            <a:off x="457200" y="3048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rice/earnings ratio is the closing price of the share compared to the annual earnings pe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If the stock’s market price is $50.00 and the earnings per share is $2.25, the P/E ratio is 22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For every dollar the company earns, the stock’s market price is worth $22.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A high number indicates people are optimistic about the company and health of the mar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14E1255-0E5D-48E5-9D4E-A5501D0FC2E0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Why Companies Issue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When a company would like to grow, it issues stocks to raise funds and pay for ongoing business activiti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It is popular because: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The company does not have to repay the money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aying dividends is optional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Dividends are distributions of earnings paid to stockholde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29D8BC2F-D0B6-4128-80B1-FE52458F160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Volum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280" y="1874880"/>
          <a:ext cx="8839440" cy="13255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  <a:gridCol w="838080"/>
                <a:gridCol w="838440"/>
                <a:gridCol w="685800"/>
                <a:gridCol w="687240"/>
                <a:gridCol w="557280"/>
                <a:gridCol w="790560"/>
                <a:gridCol w="762120"/>
                <a:gridCol w="707760"/>
                <a:gridCol w="838440"/>
                <a:gridCol w="68580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68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Vol 100’s is the number of transactions to the share on the reporte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aur"/>
              </a:rPr>
              <a:t>Represented in hundreds (take the number and add two ze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357D4EB0-1B98-4F4A-90AB-38AB6FF7BDF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High and Low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1874880"/>
          <a:ext cx="8610480" cy="1401840"/>
        </p:xfrm>
        <a:graphic>
          <a:graphicData uri="http://schemas.openxmlformats.org/drawingml/2006/table">
            <a:tbl>
              <a:tblPr/>
              <a:tblGrid>
                <a:gridCol w="861840"/>
                <a:gridCol w="638280"/>
                <a:gridCol w="780840"/>
                <a:gridCol w="779760"/>
                <a:gridCol w="637920"/>
                <a:gridCol w="641520"/>
                <a:gridCol w="612720"/>
                <a:gridCol w="762120"/>
                <a:gridCol w="761760"/>
                <a:gridCol w="609840"/>
                <a:gridCol w="761760"/>
                <a:gridCol w="76212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Rectangle 55"/>
          <p:cNvSpPr/>
          <p:nvPr/>
        </p:nvSpPr>
        <p:spPr>
          <a:xfrm>
            <a:off x="457200" y="335268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High and low entries represent the high and low selling price of one share for the prev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BCB3ADB-C399-4BB8-B348-037AC6B3361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los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80880" y="1874880"/>
          <a:ext cx="8458200" cy="1554120"/>
        </p:xfrm>
        <a:graphic>
          <a:graphicData uri="http://schemas.openxmlformats.org/drawingml/2006/table">
            <a:tbl>
              <a:tblPr/>
              <a:tblGrid>
                <a:gridCol w="824040"/>
                <a:gridCol w="609480"/>
                <a:gridCol w="746280"/>
                <a:gridCol w="745920"/>
                <a:gridCol w="609840"/>
                <a:gridCol w="731880"/>
                <a:gridCol w="609480"/>
                <a:gridCol w="762120"/>
                <a:gridCol w="685800"/>
                <a:gridCol w="68580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59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Close is the price of the last share sold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AE4E08A-A08B-4284-8406-D11DC9FDBA8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t 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74880"/>
          <a:ext cx="8381880" cy="1630440"/>
        </p:xfrm>
        <a:graphic>
          <a:graphicData uri="http://schemas.openxmlformats.org/drawingml/2006/table">
            <a:tbl>
              <a:tblPr/>
              <a:tblGrid>
                <a:gridCol w="801720"/>
                <a:gridCol w="593640"/>
                <a:gridCol w="725400"/>
                <a:gridCol w="725760"/>
                <a:gridCol w="593640"/>
                <a:gridCol w="711000"/>
                <a:gridCol w="594000"/>
                <a:gridCol w="893520"/>
                <a:gridCol w="685800"/>
                <a:gridCol w="609840"/>
                <a:gridCol w="761760"/>
                <a:gridCol w="68580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52-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   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P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V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00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-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1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  <a:ea typeface="Times New Roman"/>
                        </a:rPr>
                        <a:t>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55"/>
          <p:cNvSpPr/>
          <p:nvPr/>
        </p:nvSpPr>
        <p:spPr>
          <a:xfrm>
            <a:off x="457200" y="3581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t change is the difference between the closing price of the share from the prior day and the curr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9727F00-0610-45EE-954D-1ABE5C00CF2D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pperplate Gothic Light"/>
              </a:rPr>
              <a:t>How Well the Stock Market is Doing Overall</a:t>
            </a:r>
            <a:endParaRPr b="1" lang="en-US" sz="5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16" name="Picture 6" descr="j0237770"/>
          <p:cNvPicPr/>
          <p:nvPr/>
        </p:nvPicPr>
        <p:blipFill>
          <a:blip r:embed="rId1"/>
          <a:stretch/>
        </p:blipFill>
        <p:spPr>
          <a:xfrm>
            <a:off x="3657600" y="4114800"/>
            <a:ext cx="19461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561FD35B-68C2-478C-A5A4-9CAA2C836E6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3 Basic Indicato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ow Jones Industrial Average (“DOW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Lists the 30 leading industrial blue chip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tandard and Poor’s 500 Composite Index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vers market activity for 500 stock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re accurate than DOW because it evaluates a greater variety of stock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National Association of Security Dealers Automated Quotations (“NASDAQ”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nitors fast moving technology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Speculative stocks, show dramatic ups and down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2F07272-5BF1-400F-BD95-CAF07F93B7B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Ups and Dow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ull market means the market is doing well because investors are optimistic about the economy and are purchasing stock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term bear market means the market is doing poorly and investors are not purchasing stocks or selling stocks already owned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08A61794-99F3-46AA-ACF8-7278867A2EDB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Purchasing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pic>
        <p:nvPicPr>
          <p:cNvPr id="325" name="Picture 7" descr="j0250522"/>
          <p:cNvPicPr/>
          <p:nvPr/>
        </p:nvPicPr>
        <p:blipFill>
          <a:blip r:embed="rId1"/>
          <a:stretch/>
        </p:blipFill>
        <p:spPr>
          <a:xfrm>
            <a:off x="3657600" y="3505320"/>
            <a:ext cx="173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B21F0CD-629C-4738-9D2B-4169FF8D89E9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Broker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 Broker is a person who is licensed to buy and sell stocks, provide investment advice, and collect a commission on each purchase or sal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urchases stocks on an organized exchange (stock market)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ver ¾ of all stocks are bought and sold on an organized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B3FB4AD5-0F7A-478F-82D1-7220F0D98E7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Organized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Minimum requirements for a stock to ensure only reputable companies are use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Each exchange has a limited number of seats available which brokerage firms  purchase to give them the legal right to buy and sell stocks on the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9D86B11E-E3C6-45DF-861D-197395423D83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isk vs. Return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On average, stocks have a high rate of retur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The increase or decrease in the original purchase pric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Higher rate of return = greater ris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Uncertainty about the outcome of an investmen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tocks provide portfolio diversification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46200" indent="-248400"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Money invested in a variety of investment tool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7B9AD80-0504-422C-B106-9E3BE6D49F55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ew York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ew York Stock Exchange (NYSE)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Oldest and largest, began in 1792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1,366 seats availabl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,800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33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rict requiremen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A9318A14-3179-4630-A3E1-CBDF60C2734F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American Stock Exchange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American Stock Exchange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Began in 1849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 largest ex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t’s requirements are not as strict as NYSE allowing younger, smaller companies to lis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24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BA9B3B9-FEC8-405A-BF36-FC392F7C9D0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Regional Stock Exchange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Regional Stock Exchange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to investors living in a specific geographical area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ncluding Boston, Cincinnati, Philadelphia, Spokan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148DBF41-42A4-42E3-8A1A-13D851B39824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NASDAQ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National Association of Securities Dealers Automated Quot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Stocks are traded in an over the counter electronic market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4,000 small companie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Company requirements are not as strict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More volatile because companies are young and new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Average stock price is $11.00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9B4BA61-299D-42DC-91D5-94912F1060D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upply vs. Demand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The stock exchange is organized based upon the laws of supply and demand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Supply is the relationship of prices to the quantities of a good or service sellers are willing to offer for sale at any given point in tim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Demand is the relationship of prices to the quantities and the corresponding quantities of a good or service buyers are willing to purchase at any given point in time.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7B4EE353-AE24-4C98-9746-5DAC729E1141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2 Basic Types of Stock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Vs. 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Preferred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CB8FEC27-60FA-4788-840D-1691D7B523FC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Common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Common stock – shares or units of ownership in a public corporation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Most basic form of ownership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One vote per share owned to determine company’s board of director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Ways the stock value can chang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The dollar value increases or decreas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Stock split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 occurs – shares owned by existing stockholders are divided into a larger number of shar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 merger of two companies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ividends are paid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EE94A79-76D3-44CD-B117-552CF4E97A9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Preferred Stock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entaur"/>
              </a:rPr>
              <a:t>Preferred stock – shares which pay fixed dividends and have priority over common stock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ess risk than common stock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o voting rights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ividends are stated as a percentage known as the </a:t>
            </a:r>
            <a:r>
              <a:rPr b="1" lang="en-US" sz="2800" spc="-1" strike="noStrike">
                <a:solidFill>
                  <a:srgbClr val="009999"/>
                </a:solidFill>
                <a:latin typeface="Centaur"/>
              </a:rPr>
              <a:t>par value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entaur"/>
              </a:rPr>
              <a:t>Fixed value stated on the stock certificate</a:t>
            </a:r>
            <a:endParaRPr b="1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E6D85C78-AB5B-4A6C-960D-A61B177A97C6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60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226" name="Picture 7" descr="BS00512_[1]"/>
          <p:cNvPicPr/>
          <p:nvPr/>
        </p:nvPicPr>
        <p:blipFill>
          <a:blip r:embed="rId1"/>
          <a:stretch/>
        </p:blipFill>
        <p:spPr>
          <a:xfrm>
            <a:off x="2666880" y="3886200"/>
            <a:ext cx="38102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380880" y="617220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© Family Economics &amp; Financial Education – Revised November 2004 – Investing Unit – Language of the Stock Market – Slide </a:t>
            </a:r>
            <a:fld id="{4F6FF7BB-6452-49AA-81AC-C01F422CAA8A}" type="slidenum"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  <a:ea typeface="Arial"/>
              </a:rPr>
              <a:t>Funded by a grant from Take Charge America, Inc. to the Norton School of Family and Consumer Sciences at the University of Ariz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pperplate Gothic Light"/>
              </a:rPr>
              <a:t>Stock Classifications</a:t>
            </a:r>
            <a:endParaRPr b="1" lang="en-US" sz="4400" spc="-1" strike="noStrike">
              <a:solidFill>
                <a:srgbClr val="000066"/>
              </a:solidFill>
              <a:latin typeface="Copperplate Gothic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 variety of type of stocks are necessary for a diversified portfolio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ven basic classifications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Growth, Income, Value, Cyclical, Countercyclical, Speculative, Blue Chip</a:t>
            </a: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ome stocks can be classified into more than one category</a:t>
            </a:r>
            <a:endParaRPr b="1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7:33:39Z</dcterms:created>
  <dc:creator>nchinadle</dc:creator>
  <dc:description/>
  <dc:language>en-US</dc:language>
  <cp:lastModifiedBy>TCAI</cp:lastModifiedBy>
  <dcterms:modified xsi:type="dcterms:W3CDTF">2010-04-30T20:56:29Z</dcterms:modified>
  <cp:revision>35</cp:revision>
  <dc:subject/>
  <dc:title>Slide 1</dc:title>
</cp:coreProperties>
</file>